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2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3490560"/>
            <a:ext cx="77724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3490560"/>
            <a:ext cx="37926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20760" y="3490560"/>
            <a:ext cx="37926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50236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080" y="1981080"/>
            <a:ext cx="250236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3720" y="1981080"/>
            <a:ext cx="250236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3490560"/>
            <a:ext cx="250236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080" y="3490560"/>
            <a:ext cx="250236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3720" y="3490560"/>
            <a:ext cx="250236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772400" cy="28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28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28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28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8080" y="55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28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3490560"/>
            <a:ext cx="37926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772400" cy="28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28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20760" y="3490560"/>
            <a:ext cx="37926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3490560"/>
            <a:ext cx="77724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38080" y="3490560"/>
            <a:ext cx="77724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3490560"/>
            <a:ext cx="37926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20760" y="3490560"/>
            <a:ext cx="37926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50236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080" y="1981080"/>
            <a:ext cx="250236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3720" y="1981080"/>
            <a:ext cx="250236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38080" y="3490560"/>
            <a:ext cx="250236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080" y="3490560"/>
            <a:ext cx="250236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93720" y="3490560"/>
            <a:ext cx="250236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28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28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28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55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28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3490560"/>
            <a:ext cx="37926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28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20760" y="3490560"/>
            <a:ext cx="37926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3490560"/>
            <a:ext cx="77724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981080"/>
            <a:ext cx="7772400" cy="28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70720" indent="-27072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270720" indent="-27072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270720" indent="-27072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70720" indent="-27072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70720" indent="-27072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70720" indent="-27072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9600"/>
            <a:ext cx="9144000" cy="0"/>
          </a:xfrm>
          <a:prstGeom prst="line">
            <a:avLst/>
          </a:prstGeom>
          <a:ln w="38160">
            <a:solidFill>
              <a:srgbClr val="d0d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5335560"/>
            <a:ext cx="9144000" cy="1522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5334120"/>
            <a:ext cx="9144000" cy="0"/>
          </a:xfrm>
          <a:prstGeom prst="line">
            <a:avLst/>
          </a:prstGeom>
          <a:ln w="12600">
            <a:solidFill>
              <a:srgbClr val="338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160" y="38160"/>
            <a:ext cx="21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0d0d0"/>
                </a:solidFill>
                <a:latin typeface="Verdana"/>
              </a:rPr>
              <a:t>ROTARY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2438280"/>
            <a:ext cx="6172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666880" y="0"/>
            <a:ext cx="0" cy="2743200"/>
          </a:xfrm>
          <a:prstGeom prst="line">
            <a:avLst/>
          </a:prstGeom>
          <a:ln w="3240">
            <a:solidFill>
              <a:srgbClr val="d0d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841480" y="0"/>
            <a:ext cx="0" cy="2743200"/>
          </a:xfrm>
          <a:prstGeom prst="line">
            <a:avLst/>
          </a:prstGeom>
          <a:ln w="3240">
            <a:solidFill>
              <a:srgbClr val="d0d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743200" y="0"/>
            <a:ext cx="0" cy="2743200"/>
          </a:xfrm>
          <a:prstGeom prst="line">
            <a:avLst/>
          </a:prstGeom>
          <a:ln w="3240">
            <a:solidFill>
              <a:srgbClr val="d0d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7960" y="2565360"/>
            <a:ext cx="21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0d0d0"/>
                </a:solidFill>
                <a:latin typeface="Verdana"/>
              </a:rPr>
              <a:t>ROTARY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40" y="3673440"/>
            <a:ext cx="9140760" cy="3184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rotary.org/programs/youth_ex/index.html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otary.org/programs/youth_ex/index.html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rotary.org/" TargetMode="External"/><Relationship Id="rId2" Type="http://schemas.openxmlformats.org/officeDocument/2006/relationships/hyperlink" Target="http://www.d2260.rotary.no/" TargetMode="External"/><Relationship Id="rId3" Type="http://schemas.openxmlformats.org/officeDocument/2006/relationships/hyperlink" Target="http://www.rotary.no/" TargetMode="External"/><Relationship Id="rId4" Type="http://schemas.openxmlformats.org/officeDocument/2006/relationships/hyperlink" Target="http://www.skedsmonord.rotary.no/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22.jpeg"/><Relationship Id="rId7" Type="http://schemas.openxmlformats.org/officeDocument/2006/relationships/image" Target="../media/image22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828360"/>
            <a:ext cx="91440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Verdana"/>
              </a:rPr>
              <a:t>Informasjon om Rot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582560"/>
            <a:ext cx="9144000" cy="383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Rotary</a:t>
            </a: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 - en verdensomspennende, yrkesbasert organisasjon med utstrakt lokal virksomhet. Medlemmene innehar gjerne ledende stillinger eller fremstår på annen måte som ressurspersoner i yrkesmessig sammenhe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Histor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Oppbyg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Fokusområ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Formå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Lokal klub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5346720"/>
            <a:ext cx="749160" cy="750960"/>
          </a:xfrm>
          <a:prstGeom prst="rect">
            <a:avLst/>
          </a:prstGeom>
          <a:ln w="9360">
            <a:solidFill>
              <a:srgbClr val="d0d0d0"/>
            </a:solidFill>
            <a:miter/>
          </a:ln>
        </p:spPr>
      </p:pic>
      <p:sp>
        <p:nvSpPr>
          <p:cNvPr id="89" name=""/>
          <p:cNvSpPr/>
          <p:nvPr/>
        </p:nvSpPr>
        <p:spPr>
          <a:xfrm rot="20209200">
            <a:off x="5962320" y="3697200"/>
            <a:ext cx="2813040" cy="1103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Verdana"/>
              </a:rPr>
              <a:t>Informasjon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Verdana"/>
              </a:rPr>
              <a:t>potensielle medle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6800" y="5832360"/>
            <a:ext cx="30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Rotary Distrikt 22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12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Rotary i Norden og Norge</a:t>
            </a:r>
            <a:r>
              <a:rPr b="0" lang="nb-NO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8720" y="2598480"/>
            <a:ext cx="7772400" cy="28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Den første Rotary-klubben i Nor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ble etablert i Oslo 1. juni 192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Kristiania 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(nå Oslo)</a:t>
            </a: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 Rotary Klub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5346720"/>
            <a:ext cx="749160" cy="750960"/>
          </a:xfrm>
          <a:prstGeom prst="rect">
            <a:avLst/>
          </a:prstGeom>
          <a:ln w="9360">
            <a:solidFill>
              <a:srgbClr val="d0d0d0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766800" y="5832360"/>
            <a:ext cx="30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Rotary Distrikt 22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561600"/>
            <a:ext cx="91440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Rotary’s Oppbyg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Rotary Klubb (vel 32.800 i over 200 land)  </a:t>
            </a:r>
            <a:r>
              <a:rPr b="1" lang="nb-NO" sz="2400" spc="-1" strike="noStrike">
                <a:solidFill>
                  <a:srgbClr val="0066ff"/>
                </a:solidFill>
                <a:latin typeface="Verdana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Distrikt (532 distrikter)</a:t>
            </a: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b-NO" sz="2400" spc="-1" strike="noStrike">
                <a:solidFill>
                  <a:srgbClr val="0066ff"/>
                </a:solidFill>
                <a:latin typeface="Verdana"/>
              </a:rPr>
              <a:t>Guvernø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 u="sng">
                <a:solidFill>
                  <a:srgbClr val="000000"/>
                </a:solidFill>
                <a:uFillTx/>
                <a:latin typeface="Verdana"/>
              </a:rPr>
              <a:t>Rotary International  (RI)</a:t>
            </a: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b-NO" sz="2400" spc="-1" strike="noStrike">
                <a:solidFill>
                  <a:srgbClr val="0066ff"/>
                </a:solidFill>
                <a:latin typeface="Verdana"/>
              </a:rPr>
              <a:t>RI Presid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5346720"/>
            <a:ext cx="749160" cy="750960"/>
          </a:xfrm>
          <a:prstGeom prst="rect">
            <a:avLst/>
          </a:prstGeom>
          <a:ln w="9360">
            <a:solidFill>
              <a:srgbClr val="d0d0d0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766800" y="5832360"/>
            <a:ext cx="30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Rotary Distrikt 22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7280" y="871200"/>
            <a:ext cx="773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Rotary-hjul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68200" y="1680840"/>
            <a:ext cx="4994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Dagens emblem er fra 1923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Fargene er kongeblått og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gu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Hjulet symboliserer    rotasjonsprinsipp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24 tenner symboliserer at du er rotarianer 24 timer i </a:t>
            </a: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døg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(ikke bare 1 time i uk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20560" y="1779480"/>
            <a:ext cx="2762280" cy="2772000"/>
          </a:xfrm>
          <a:prstGeom prst="rect">
            <a:avLst/>
          </a:prstGeom>
          <a:ln w="9360">
            <a:solidFill>
              <a:srgbClr val="d0d0d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5346720"/>
            <a:ext cx="749160" cy="750960"/>
          </a:xfrm>
          <a:prstGeom prst="rect">
            <a:avLst/>
          </a:prstGeom>
          <a:ln w="9360">
            <a:solidFill>
              <a:srgbClr val="d0d0d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766800" y="5832360"/>
            <a:ext cx="30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Rotary Distrikt 22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0" y="73800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Rotary Distrikt 226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02160" y="1557000"/>
            <a:ext cx="4641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Omfa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Akershus (ekskl. Asker, Bærum)</a:t>
            </a:r>
            <a:br>
              <a:rPr sz="2000"/>
            </a:b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  Østfold</a:t>
            </a:r>
            <a:br>
              <a:rPr sz="2000"/>
            </a:b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  Ørje/Töcksfors i Sveri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54 klub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vel 2 000 medlemm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Guvernør 2008-09 er</a:t>
            </a:r>
            <a:br>
              <a:rPr sz="2000"/>
            </a:b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Åge Bjor, Tune 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320760"/>
            <a:ext cx="4484520" cy="63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53680"/>
            <a:ext cx="77724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Visjon Rotary Distrikt 226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257120"/>
            <a:ext cx="89154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Distrikt 2260 skal representere et tverrsnitt av yrker blant ressurspersoner i befolkningen som i kraft av sin personlighet og væremåte bidrar til å fremme høy yrkesetikk og positive idealer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Organisasjonen ønsker å gagne andre ved å bidra aktivt til nærmiljøets utvikling, støtte ungdom under utdannelse, yte kunnskap og økonomisk bistand til viktige lokale, nasjonale og internasjonale prosjekter innenfor programrammene  til Rotary International og Rotary Foundat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Organisasjonen ønsker å være et prioritert forum og representere et nettverk for sine medlemmer lokalt, nasjonalt og internasjonal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5346720"/>
            <a:ext cx="749160" cy="750960"/>
          </a:xfrm>
          <a:prstGeom prst="rect">
            <a:avLst/>
          </a:prstGeom>
          <a:ln w="9360">
            <a:solidFill>
              <a:srgbClr val="d0d0d0"/>
            </a:solidFill>
            <a:miter/>
          </a:ln>
        </p:spPr>
      </p:pic>
      <p:sp>
        <p:nvSpPr>
          <p:cNvPr id="179" name=""/>
          <p:cNvSpPr/>
          <p:nvPr/>
        </p:nvSpPr>
        <p:spPr>
          <a:xfrm>
            <a:off x="766800" y="5832360"/>
            <a:ext cx="30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Rotary Distrikt 22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873600" y="797040"/>
            <a:ext cx="5279760" cy="3746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41120" y="1649520"/>
            <a:ext cx="3733920" cy="3385800"/>
          </a:xfrm>
          <a:prstGeom prst="rect">
            <a:avLst/>
          </a:prstGeom>
          <a:noFill/>
          <a:ln w="9360">
            <a:solidFill>
              <a:srgbClr val="d0d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.forpliktet the RI Board seg til å bidra til og vaksin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of the world’s children against polio by the time of the 100th anniversary of Rotary International in the year 2005.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107960" y="4568760"/>
            <a:ext cx="5035320" cy="187200"/>
            <a:chOff x="4107960" y="4568760"/>
            <a:chExt cx="5035320" cy="187200"/>
          </a:xfrm>
        </p:grpSpPr>
        <p:sp>
          <p:nvSpPr>
            <p:cNvPr id="183" name=""/>
            <p:cNvSpPr/>
            <p:nvPr/>
          </p:nvSpPr>
          <p:spPr>
            <a:xfrm flipH="1">
              <a:off x="4107960" y="4755960"/>
              <a:ext cx="503532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107960" y="4568760"/>
              <a:ext cx="503532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107960" y="4667760"/>
              <a:ext cx="503532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120920" y="898920"/>
            <a:ext cx="5022360" cy="186840"/>
            <a:chOff x="4120920" y="898920"/>
            <a:chExt cx="5022360" cy="186840"/>
          </a:xfrm>
        </p:grpSpPr>
        <p:sp>
          <p:nvSpPr>
            <p:cNvPr id="187" name=""/>
            <p:cNvSpPr/>
            <p:nvPr/>
          </p:nvSpPr>
          <p:spPr>
            <a:xfrm flipH="1">
              <a:off x="4120920" y="1085760"/>
              <a:ext cx="502236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120920" y="898920"/>
              <a:ext cx="502236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120920" y="997560"/>
              <a:ext cx="502236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89080" y="901800"/>
            <a:ext cx="3728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198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5346720"/>
            <a:ext cx="749160" cy="750960"/>
          </a:xfrm>
          <a:prstGeom prst="rect">
            <a:avLst/>
          </a:prstGeom>
          <a:ln w="9360">
            <a:solidFill>
              <a:srgbClr val="d0d0d0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766800" y="5832360"/>
            <a:ext cx="30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Rotary Distrikt 22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920880" y="1643040"/>
            <a:ext cx="310032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11000" y="517320"/>
            <a:ext cx="7490520" cy="174600"/>
            <a:chOff x="711000" y="517320"/>
            <a:chExt cx="7490520" cy="174600"/>
          </a:xfrm>
        </p:grpSpPr>
        <p:sp>
          <p:nvSpPr>
            <p:cNvPr id="195" name=""/>
            <p:cNvSpPr/>
            <p:nvPr/>
          </p:nvSpPr>
          <p:spPr>
            <a:xfrm flipH="1">
              <a:off x="711000" y="691920"/>
              <a:ext cx="749052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11000" y="517320"/>
              <a:ext cx="749052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711000" y="609480"/>
              <a:ext cx="749052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2900520" y="936720"/>
            <a:ext cx="57704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Mer enn en million Rotaryan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har på frivillig basis brukt tid og personlige ressurser for å hjelpe til med å vaksinere 2 000 000 000 barn i 122 land mot p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936800" y="3571920"/>
            <a:ext cx="3314520" cy="17524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3571920"/>
            <a:ext cx="1943280" cy="17510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251320" y="3568680"/>
            <a:ext cx="2662200" cy="174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7897680" y="3568680"/>
            <a:ext cx="1246320" cy="1754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685800" y="932040"/>
            <a:ext cx="2043000" cy="304776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grpSp>
        <p:nvGrpSpPr>
          <p:cNvPr id="204" name=""/>
          <p:cNvGrpSpPr/>
          <p:nvPr/>
        </p:nvGrpSpPr>
        <p:grpSpPr>
          <a:xfrm>
            <a:off x="2743200" y="3311280"/>
            <a:ext cx="6400080" cy="174600"/>
            <a:chOff x="2743200" y="3311280"/>
            <a:chExt cx="6400080" cy="174600"/>
          </a:xfrm>
        </p:grpSpPr>
        <p:sp>
          <p:nvSpPr>
            <p:cNvPr id="205" name=""/>
            <p:cNvSpPr/>
            <p:nvPr/>
          </p:nvSpPr>
          <p:spPr>
            <a:xfrm flipH="1">
              <a:off x="2743200" y="3485880"/>
              <a:ext cx="640008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743200" y="3311280"/>
              <a:ext cx="640008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2743200" y="3403440"/>
              <a:ext cx="640008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0" y="5346720"/>
            <a:ext cx="749160" cy="750960"/>
          </a:xfrm>
          <a:prstGeom prst="rect">
            <a:avLst/>
          </a:prstGeom>
          <a:ln w="9360">
            <a:solidFill>
              <a:srgbClr val="d0d0d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766800" y="5832360"/>
            <a:ext cx="30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Rotary Distrikt 22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330120"/>
            <a:ext cx="9144000" cy="334008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62280" y="852480"/>
            <a:ext cx="60768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Verdana"/>
              </a:rPr>
              <a:t>Rotary er den største ikke regjeringsbaserte bidragsyter til den globale utryddelsen av polio. Når polio er helt utryddet, vil Rotary ha brukt nærmere 7</a:t>
            </a:r>
            <a:r>
              <a:rPr b="1" lang="nb-NO" sz="2400" spc="-1" strike="noStrike">
                <a:solidFill>
                  <a:srgbClr val="ffffff"/>
                </a:solidFill>
                <a:latin typeface="Verdana"/>
              </a:rPr>
              <a:t>00 millioner</a:t>
            </a:r>
            <a:r>
              <a:rPr b="0" lang="nb-NO" sz="2400" spc="-1" strike="noStrike">
                <a:solidFill>
                  <a:srgbClr val="ffffff"/>
                </a:solidFill>
                <a:latin typeface="Verdana"/>
              </a:rPr>
              <a:t> US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9080" y="4719960"/>
            <a:ext cx="9123840" cy="186840"/>
            <a:chOff x="19080" y="4719960"/>
            <a:chExt cx="9123840" cy="186840"/>
          </a:xfrm>
        </p:grpSpPr>
        <p:sp>
          <p:nvSpPr>
            <p:cNvPr id="213" name=""/>
            <p:cNvSpPr/>
            <p:nvPr/>
          </p:nvSpPr>
          <p:spPr>
            <a:xfrm flipH="1">
              <a:off x="19080" y="4906800"/>
              <a:ext cx="912384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9080" y="4719960"/>
              <a:ext cx="912384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9080" y="4818600"/>
              <a:ext cx="912384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3670200"/>
            <a:ext cx="9144000" cy="3187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84200" y="1022400"/>
            <a:ext cx="1798560" cy="1801800"/>
          </a:xfrm>
          <a:prstGeom prst="rect">
            <a:avLst/>
          </a:prstGeom>
          <a:ln w="9360">
            <a:solidFill>
              <a:srgbClr val="d0d0d0"/>
            </a:solidFill>
            <a:miter/>
          </a:ln>
        </p:spPr>
      </p:pic>
      <p:sp>
        <p:nvSpPr>
          <p:cNvPr id="218" name=""/>
          <p:cNvSpPr/>
          <p:nvPr/>
        </p:nvSpPr>
        <p:spPr>
          <a:xfrm>
            <a:off x="755640" y="5614920"/>
            <a:ext cx="30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Rotary Distrikt 22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5622840"/>
            <a:ext cx="749160" cy="750960"/>
          </a:xfrm>
          <a:prstGeom prst="rect">
            <a:avLst/>
          </a:prstGeom>
          <a:ln w="9360">
            <a:solidFill>
              <a:srgbClr val="d0d0d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85720" y="1100160"/>
            <a:ext cx="7689960" cy="30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I 2007 har en rukket en</a:t>
            </a:r>
            <a:br>
              <a:rPr sz="2400"/>
            </a:br>
            <a:br>
              <a:rPr sz="2400"/>
            </a:b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måloppnåelse på 99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Hovedinnsatsen skjer nå i India </a:t>
            </a:r>
            <a:br>
              <a:rPr sz="2400"/>
            </a:b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og Nigeria </a:t>
            </a:r>
            <a:br>
              <a:rPr sz="2400"/>
            </a:b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Fortsatt er det noen tilfeller i </a:t>
            </a:r>
            <a:br>
              <a:rPr sz="2400"/>
            </a:b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Pakistan og Afganist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5346720"/>
            <a:ext cx="749160" cy="750960"/>
          </a:xfrm>
          <a:prstGeom prst="rect">
            <a:avLst/>
          </a:prstGeom>
          <a:ln w="9360">
            <a:solidFill>
              <a:srgbClr val="d0d0d0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766800" y="5832360"/>
            <a:ext cx="30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Rotary Distrikt 22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318960"/>
            <a:ext cx="9140760" cy="50151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074600" y="209520"/>
            <a:ext cx="40910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Rotary vil finne nye muligheter til å yte sine </a:t>
            </a: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humanitære</a:t>
            </a: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tjenester</a:t>
            </a: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 og til å </a:t>
            </a: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bygge</a:t>
            </a: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broer</a:t>
            </a: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 for bedre </a:t>
            </a: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internasjonal</a:t>
            </a: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forståels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938160" y="307800"/>
            <a:ext cx="166680" cy="5038560"/>
            <a:chOff x="938160" y="307800"/>
            <a:chExt cx="166680" cy="5038560"/>
          </a:xfrm>
        </p:grpSpPr>
        <p:sp>
          <p:nvSpPr>
            <p:cNvPr id="226" name=""/>
            <p:cNvSpPr/>
            <p:nvPr/>
          </p:nvSpPr>
          <p:spPr>
            <a:xfrm flipV="1">
              <a:off x="938160" y="307800"/>
              <a:ext cx="0" cy="503856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104840" y="307800"/>
              <a:ext cx="0" cy="503856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016640" y="307800"/>
              <a:ext cx="0" cy="503856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5346720"/>
            <a:ext cx="749160" cy="750960"/>
          </a:xfrm>
          <a:prstGeom prst="rect">
            <a:avLst/>
          </a:prstGeom>
          <a:ln w="9360">
            <a:solidFill>
              <a:srgbClr val="d0d0d0"/>
            </a:solidFill>
            <a:miter/>
          </a:ln>
        </p:spPr>
      </p:pic>
      <p:sp>
        <p:nvSpPr>
          <p:cNvPr id="230" name=""/>
          <p:cNvSpPr/>
          <p:nvPr/>
        </p:nvSpPr>
        <p:spPr>
          <a:xfrm>
            <a:off x="766800" y="5832360"/>
            <a:ext cx="30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Rotary Distrikt 22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62000" y="1413000"/>
            <a:ext cx="607212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Den første Rotary-klubben ble grunnlagt i Chicago 23. februar i 1905 av advokat </a:t>
            </a:r>
            <a:r>
              <a:rPr b="1" lang="nb-NO" sz="2800" spc="-1" strike="noStrike">
                <a:solidFill>
                  <a:srgbClr val="000000"/>
                </a:solidFill>
                <a:latin typeface="Verdana"/>
              </a:rPr>
              <a:t>Paul Harri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0" y="2495520"/>
            <a:ext cx="914400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Ungdomsutveksling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 (1 års varighe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Gjensidig utveksling av ungdom. Viktig og praktisk bidrag til målet ovenfor. 16-18 år v/utreise. Åpen for all ungdom s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anbefales av Rotar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GSE – Group Study Exchange</a:t>
            </a: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 - Team på 4-5 deltagere med ulik yrkesbakgrunn (25-40 år). Utveksling på distriktsnivå. Lokale Rotary-klubber sørger for opphold og programmet lokalt. Ledes av erfaren rotarianer med varighet 4-6 uker. Studietur for å studere andre lands kultur, samfunns- og yrkesliv. Åpent for alle som anbefales av Rotar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944720" y="363600"/>
            <a:ext cx="719928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ccff"/>
                </a:solidFill>
                <a:latin typeface="Verdana"/>
              </a:rPr>
              <a:t>Arbeide</a:t>
            </a:r>
            <a:r>
              <a:rPr b="1" lang="nb-NO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nb-NO" sz="2800" spc="-1" strike="noStrike">
                <a:solidFill>
                  <a:srgbClr val="00ccff"/>
                </a:solidFill>
                <a:latin typeface="Verdana"/>
              </a:rPr>
              <a:t>for internasjonal forståelse og fred gjennom vennskap over landegrenser mellom mennesker fra alle yrk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5346720"/>
            <a:ext cx="749160" cy="750960"/>
          </a:xfrm>
          <a:prstGeom prst="rect">
            <a:avLst/>
          </a:prstGeom>
          <a:ln w="9360">
            <a:solidFill>
              <a:srgbClr val="d0d0d0"/>
            </a:solidFill>
            <a:miter/>
          </a:ln>
        </p:spPr>
      </p:pic>
      <p:pic>
        <p:nvPicPr>
          <p:cNvPr id="2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49200"/>
            <a:ext cx="1809720" cy="19512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766800" y="5832360"/>
            <a:ext cx="30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Rotary Distrikt 22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47760" y="411120"/>
            <a:ext cx="699624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ccff"/>
                </a:solidFill>
                <a:latin typeface="Verdana"/>
              </a:rPr>
              <a:t>Arbeide</a:t>
            </a:r>
            <a:r>
              <a:rPr b="1" lang="nb-NO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nb-NO" sz="2800" spc="-1" strike="noStrike">
                <a:solidFill>
                  <a:srgbClr val="00ccff"/>
                </a:solidFill>
                <a:latin typeface="Verdana"/>
              </a:rPr>
              <a:t>for internasjonal forståelse og fred - gjennom vennskap over landegrenser mellom mennesker fra alle yrk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25560" y="227664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Verdana"/>
              </a:rPr>
              <a:t>Handicamp Norway</a:t>
            </a:r>
            <a:r>
              <a:rPr b="0" lang="nb-N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(Haraldvangen Hurdal)  Sommerleir (hvert 2. år) for fysisk funksjonshemmet og ikke funksjonshemmet ungdom, 18-28 år. Målet er integrasjon av frisk og funksjonshemmet ungdom gjennom sport og andre fritidsaktiviteter samt å lære deltakerne internasjonalt vennskap og forståel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Verdana"/>
              </a:rPr>
              <a:t>Georgia-stipend</a:t>
            </a:r>
            <a:r>
              <a:rPr b="0" lang="nb-NO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tilbyr ca. 85 ungdommer (18-24 år) fra hele verden ett års studium ved collage eller universitet i staten Georgia, USA. Motto: ”Bringing Nations Together”. Normalt har Norge 4-10 plasser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49200"/>
            <a:ext cx="1809720" cy="1951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0" y="5346720"/>
            <a:ext cx="749160" cy="750960"/>
          </a:xfrm>
          <a:prstGeom prst="rect">
            <a:avLst/>
          </a:prstGeom>
          <a:ln w="9360">
            <a:solidFill>
              <a:srgbClr val="d0d0d0"/>
            </a:solidFill>
            <a:miter/>
          </a:ln>
        </p:spPr>
      </p:pic>
      <p:sp>
        <p:nvSpPr>
          <p:cNvPr id="240" name=""/>
          <p:cNvSpPr/>
          <p:nvPr/>
        </p:nvSpPr>
        <p:spPr>
          <a:xfrm>
            <a:off x="766800" y="5832360"/>
            <a:ext cx="30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Rotary Distrikt 22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103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The Rotary Foundation (TRF)</a:t>
            </a:r>
            <a:br>
              <a:rPr sz="3200"/>
            </a:b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(”Rotary-fondet”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2253960"/>
            <a:ext cx="88488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Målet for Rotaryfondet er å støtte RI’s bestrebelser på å nå Rotary’s mål om </a:t>
            </a: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bedre internasjonal forståelse</a:t>
            </a: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 og fred - gjennom lokale, nasjonale og internasjonale, humanitære, utdannelsesmessige og kulturelle programmer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Fondet fordeler nå over 500 mill. kroner årlig world wid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5337000"/>
            <a:ext cx="749160" cy="750960"/>
          </a:xfrm>
          <a:prstGeom prst="rect">
            <a:avLst/>
          </a:prstGeom>
          <a:ln w="9360">
            <a:solidFill>
              <a:srgbClr val="d0d0d0"/>
            </a:solidFill>
            <a:miter/>
          </a:ln>
        </p:spPr>
      </p:pic>
      <p:sp>
        <p:nvSpPr>
          <p:cNvPr id="244" name=""/>
          <p:cNvSpPr/>
          <p:nvPr/>
        </p:nvSpPr>
        <p:spPr>
          <a:xfrm>
            <a:off x="766800" y="5832360"/>
            <a:ext cx="30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Rotary Distrikt 22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24000" y="73980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Grunnprinsipper for Rot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44160" y="1414080"/>
            <a:ext cx="826596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Rotasjonsprinsipp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Med få unntak kan en kun sitte i et tillitsverv </a:t>
            </a:r>
            <a:r>
              <a:rPr b="1" lang="nb-NO" sz="2000" spc="-1" strike="noStrike">
                <a:solidFill>
                  <a:srgbClr val="000000"/>
                </a:solidFill>
                <a:latin typeface="Verdana"/>
              </a:rPr>
              <a:t>ett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 å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Klassifikasjonsprinsipp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Medlemmene skal være aktive innenfor den klassifikasjon som vedkommende representerer (hvis hun/han er yrkesaktiv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Rotary-året: 1. juli – 30. ju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Møteplik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Møteplikten er 50% (møte 1 time pr. uke). Minst 30%  skal være i egen klub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5346720"/>
            <a:ext cx="749160" cy="750960"/>
          </a:xfrm>
          <a:prstGeom prst="rect">
            <a:avLst/>
          </a:prstGeom>
          <a:ln w="9360">
            <a:solidFill>
              <a:srgbClr val="d0d0d0"/>
            </a:solidFill>
            <a:miter/>
          </a:ln>
        </p:spPr>
      </p:pic>
      <p:sp>
        <p:nvSpPr>
          <p:cNvPr id="248" name=""/>
          <p:cNvSpPr/>
          <p:nvPr/>
        </p:nvSpPr>
        <p:spPr>
          <a:xfrm>
            <a:off x="766800" y="5832360"/>
            <a:ext cx="30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Rotary Distrikt 22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95440" y="93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Presentasjon av lokal klub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32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Her legges inn en egnet presentasjon av lokal klubb som kan bidra til at potensielle medlemmer ønsker å se nærmere på hva dette kan gi dem og hva de selv kan bidra med. Etter denne presentasjonen bør de inviteres til å besøke de neste 2-3 møtene før de tar en endelig avgjørelse og blir tatt opp som medlemm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Et eksempel på lokal presentasjon er vist i det etterfølgen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Lykke til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5346720"/>
            <a:ext cx="749160" cy="750960"/>
          </a:xfrm>
          <a:prstGeom prst="rect">
            <a:avLst/>
          </a:prstGeom>
          <a:ln w="9360">
            <a:solidFill>
              <a:srgbClr val="d0d0d0"/>
            </a:solidFill>
            <a:miter/>
          </a:ln>
        </p:spPr>
      </p:pic>
      <p:sp>
        <p:nvSpPr>
          <p:cNvPr id="252" name=""/>
          <p:cNvSpPr/>
          <p:nvPr/>
        </p:nvSpPr>
        <p:spPr>
          <a:xfrm>
            <a:off x="766800" y="5832360"/>
            <a:ext cx="30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Rotary Distrikt 22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36840" y="1285920"/>
            <a:ext cx="3490920" cy="40752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324080" y="48744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Verdana"/>
              </a:rPr>
              <a:t>Vår lokale Rotaryklub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0" y="5346720"/>
            <a:ext cx="749160" cy="750960"/>
          </a:xfrm>
          <a:prstGeom prst="rect">
            <a:avLst/>
          </a:prstGeom>
          <a:ln w="9360">
            <a:solidFill>
              <a:srgbClr val="d0d0d0"/>
            </a:solidFill>
            <a:miter/>
          </a:ln>
        </p:spPr>
      </p:pic>
      <p:sp>
        <p:nvSpPr>
          <p:cNvPr id="256" name=""/>
          <p:cNvSpPr/>
          <p:nvPr/>
        </p:nvSpPr>
        <p:spPr>
          <a:xfrm>
            <a:off x="766800" y="5832360"/>
            <a:ext cx="30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Rotary Distrikt 22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590400" y="128520"/>
            <a:ext cx="85536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Skedsmo Nord Rotary Klubb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Chartret 29. april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Møtes hver tirsdag kl.20.00 i Industriveien. 1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Normalt 1-2 Inter City møter i år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Deltatt over flere år i et ”rent vann”-prosjekt i Boliv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Engasjert i å bevare Huseby-jordet som en grønn lunge (park) i Skedsm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Ungdomsutveks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Flere miljøskapende arrangementer gjennom år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Guvernørbesø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Presidentskif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5346720"/>
            <a:ext cx="749160" cy="750960"/>
          </a:xfrm>
          <a:prstGeom prst="rect">
            <a:avLst/>
          </a:prstGeom>
          <a:ln w="9360">
            <a:solidFill>
              <a:srgbClr val="d0d0d0"/>
            </a:solidFill>
            <a:miter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418600" y="5348160"/>
            <a:ext cx="725400" cy="8874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66800" y="5832360"/>
            <a:ext cx="30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Rotary Distrikt 22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73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Variert møteprogram vektleg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096560"/>
            <a:ext cx="7980480" cy="41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Eksterne/interne foredragsholde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Bedriftsbesø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Konsert- og teaterbesø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Besøk i historiske kirkebyg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3 m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Ego-foredrag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Torskeaften, Båttur, Julemøte, Julekonse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Åpne ”bli kjent møter” (suppemøt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5346720"/>
            <a:ext cx="749160" cy="750960"/>
          </a:xfrm>
          <a:prstGeom prst="rect">
            <a:avLst/>
          </a:prstGeom>
          <a:ln w="9360">
            <a:solidFill>
              <a:srgbClr val="d0d0d0"/>
            </a:solidFill>
            <a:miter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8418600" y="5348160"/>
            <a:ext cx="725400" cy="8874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766800" y="5832360"/>
            <a:ext cx="30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Rotary Distrikt 22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73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Utdrag fra møteprogramme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120" y="1980720"/>
            <a:ext cx="9284040" cy="33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Utfordringer i Skedsmo kommune v/Ordfører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Nordlys og moderne romforsk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Folkehelse – en utford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Besøk hos Havarikommisjonen </a:t>
            </a:r>
            <a:r>
              <a:rPr b="0" lang="nb-NO" sz="1400" spc="-1" strike="noStrike">
                <a:solidFill>
                  <a:srgbClr val="000000"/>
                </a:solidFill>
                <a:latin typeface="Verdana"/>
              </a:rPr>
              <a:t>(for sivil luftfart og jernban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Gründer i Norge – det umuliges kun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Romerike på Postkort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Hovedstadsregionen i utvik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Ahus – en statusrappor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5346720"/>
            <a:ext cx="749160" cy="750960"/>
          </a:xfrm>
          <a:prstGeom prst="rect">
            <a:avLst/>
          </a:prstGeom>
          <a:ln w="9360">
            <a:solidFill>
              <a:srgbClr val="d0d0d0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8418600" y="5348160"/>
            <a:ext cx="725400" cy="8874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66800" y="5832360"/>
            <a:ext cx="30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Rotary Distrikt 22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57120" y="528480"/>
            <a:ext cx="878688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Årets styresammenset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Sty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President: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Innkommende President: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Kasserer: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Sekretær: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Past President: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*****</a:t>
            </a:r>
            <a:br>
              <a:rPr sz="2000"/>
            </a:b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Spesialfunksjoner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Seremonimester: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CICO: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5346720"/>
            <a:ext cx="749160" cy="750960"/>
          </a:xfrm>
          <a:prstGeom prst="rect">
            <a:avLst/>
          </a:prstGeom>
          <a:ln w="9360">
            <a:solidFill>
              <a:srgbClr val="d0d0d0"/>
            </a:solidFill>
            <a:miter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8418600" y="5348160"/>
            <a:ext cx="725400" cy="8874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766800" y="5832360"/>
            <a:ext cx="30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Rotary Distrikt 22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58920" y="706320"/>
            <a:ext cx="8161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Utbredelsen av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Ro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2240" y="1886040"/>
            <a:ext cx="304776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.</a:t>
            </a: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startet i  Midtvesten, i </a:t>
            </a: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Chicago, Illinois, USA,</a:t>
            </a: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 og spredte seg raskt både innenfor USA og til andre land</a:t>
            </a:r>
            <a:r>
              <a:rPr b="0" lang="nb-NO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641760" y="1965240"/>
            <a:ext cx="5083200" cy="2706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637080" y="1965240"/>
            <a:ext cx="5073480" cy="2702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7080" y="1965240"/>
            <a:ext cx="5073480" cy="2702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637080" y="1965240"/>
            <a:ext cx="5073480" cy="2702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0" y="5346720"/>
            <a:ext cx="749160" cy="750960"/>
          </a:xfrm>
          <a:prstGeom prst="rect">
            <a:avLst/>
          </a:prstGeom>
          <a:ln w="9360">
            <a:solidFill>
              <a:srgbClr val="d0d0d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766800" y="5832360"/>
            <a:ext cx="30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Rotary Distrikt 22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5680" y="79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Komitee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1850760"/>
            <a:ext cx="9144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Medl.utvikling og rekrutter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Opplæring og kommunikasjon:  </a:t>
            </a: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Rotary Foundation:</a:t>
            </a: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Samfunnsprosjekter:</a:t>
            </a: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Distriktsprogrammer:</a:t>
            </a: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8418600" y="5348160"/>
            <a:ext cx="725400" cy="8874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0" y="5346720"/>
            <a:ext cx="749160" cy="750960"/>
          </a:xfrm>
          <a:prstGeom prst="rect">
            <a:avLst/>
          </a:prstGeom>
          <a:ln w="9360">
            <a:solidFill>
              <a:srgbClr val="d0d0d0"/>
            </a:solidFill>
            <a:miter/>
          </a:ln>
        </p:spPr>
      </p:pic>
      <p:sp>
        <p:nvSpPr>
          <p:cNvPr id="279" name=""/>
          <p:cNvSpPr/>
          <p:nvPr/>
        </p:nvSpPr>
        <p:spPr>
          <a:xfrm>
            <a:off x="766800" y="5832360"/>
            <a:ext cx="30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Rotary Distrikt 22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37920" y="554040"/>
            <a:ext cx="83055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øk informasjon på Rotary’s websid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33cccc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33cccc"/>
                </a:solidFill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www.rotary.org</a:t>
            </a:r>
            <a:r>
              <a:rPr b="0" lang="en-US" sz="2400" spc="-1" strike="noStrike">
                <a:solidFill>
                  <a:srgbClr val="33cccc"/>
                </a:solidFill>
                <a:latin typeface="Verdana"/>
              </a:rPr>
              <a:t>      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www.d2260.rotary.no</a:t>
            </a:r>
            <a:r>
              <a:rPr b="0" lang="en-US" sz="3200" spc="-1" strike="noStrike" u="sng">
                <a:solidFill>
                  <a:srgbClr val="33cccc"/>
                </a:solidFill>
                <a:uFillTx/>
                <a:latin typeface="Verdana"/>
              </a:rPr>
              <a:t> </a:t>
            </a:r>
            <a:br>
              <a:rPr sz="2400"/>
            </a:br>
            <a:r>
              <a:rPr b="1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www.rotary.n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www.skedsmonord.rotary.no</a:t>
            </a:r>
            <a:r>
              <a:rPr b="0" lang="en-US" sz="3200" spc="-1" strike="noStrike">
                <a:solidFill>
                  <a:srgbClr val="bbe0e3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2400"/>
            </a:br>
            <a:r>
              <a:rPr b="0" lang="en-US" sz="3200" spc="-1" strike="noStrike">
                <a:solidFill>
                  <a:srgbClr val="33cccc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33cccc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33cccc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33cccc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5"/>
          <a:stretch/>
        </p:blipFill>
        <p:spPr>
          <a:xfrm>
            <a:off x="833400" y="2182680"/>
            <a:ext cx="2695680" cy="2702160"/>
          </a:xfrm>
          <a:prstGeom prst="rect">
            <a:avLst/>
          </a:prstGeom>
          <a:ln w="9360">
            <a:solidFill>
              <a:srgbClr val="d0d0d0"/>
            </a:solidFill>
            <a:miter/>
          </a:ln>
        </p:spPr>
      </p:pic>
      <p:sp>
        <p:nvSpPr>
          <p:cNvPr id="283" name=""/>
          <p:cNvSpPr/>
          <p:nvPr/>
        </p:nvSpPr>
        <p:spPr>
          <a:xfrm rot="20585400">
            <a:off x="4314600" y="2825280"/>
            <a:ext cx="4222440" cy="2256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Du ønskes med det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velkommen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Skedsmo Nord Ro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Klu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6"/>
          <a:stretch/>
        </p:blipFill>
        <p:spPr>
          <a:xfrm rot="20350200">
            <a:off x="7218360" y="4113000"/>
            <a:ext cx="390600" cy="5000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7"/>
          <a:stretch/>
        </p:blipFill>
        <p:spPr>
          <a:xfrm rot="20350200">
            <a:off x="5637240" y="4600080"/>
            <a:ext cx="390600" cy="5000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8"/>
          <a:stretch/>
        </p:blipFill>
        <p:spPr>
          <a:xfrm>
            <a:off x="0" y="5346720"/>
            <a:ext cx="749160" cy="750960"/>
          </a:xfrm>
          <a:prstGeom prst="rect">
            <a:avLst/>
          </a:prstGeom>
          <a:ln w="9360">
            <a:solidFill>
              <a:srgbClr val="d0d0d0"/>
            </a:solidFill>
            <a:miter/>
          </a:ln>
        </p:spPr>
      </p:pic>
      <p:sp>
        <p:nvSpPr>
          <p:cNvPr id="287" name=""/>
          <p:cNvSpPr/>
          <p:nvPr/>
        </p:nvSpPr>
        <p:spPr>
          <a:xfrm>
            <a:off x="766800" y="5832360"/>
            <a:ext cx="30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Rotary Distrikt 22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-360" y="4721040"/>
            <a:ext cx="4246200" cy="161640"/>
            <a:chOff x="-360" y="4721040"/>
            <a:chExt cx="4246200" cy="161640"/>
          </a:xfrm>
        </p:grpSpPr>
        <p:sp>
          <p:nvSpPr>
            <p:cNvPr id="101" name=""/>
            <p:cNvSpPr/>
            <p:nvPr/>
          </p:nvSpPr>
          <p:spPr>
            <a:xfrm flipH="1">
              <a:off x="-360" y="4882680"/>
              <a:ext cx="424620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-360" y="4721040"/>
              <a:ext cx="424620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-360" y="4806360"/>
              <a:ext cx="424620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-360" y="1273320"/>
            <a:ext cx="4247640" cy="164880"/>
            <a:chOff x="-360" y="1273320"/>
            <a:chExt cx="4247640" cy="164880"/>
          </a:xfrm>
        </p:grpSpPr>
        <p:sp>
          <p:nvSpPr>
            <p:cNvPr id="105" name=""/>
            <p:cNvSpPr/>
            <p:nvPr/>
          </p:nvSpPr>
          <p:spPr>
            <a:xfrm flipH="1">
              <a:off x="-360" y="1438200"/>
              <a:ext cx="424764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-360" y="1273320"/>
              <a:ext cx="424764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-360" y="1360440"/>
              <a:ext cx="424764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0" y="1457280"/>
            <a:ext cx="4230720" cy="2780280"/>
          </a:xfrm>
          <a:prstGeom prst="rect">
            <a:avLst/>
          </a:prstGeom>
          <a:solidFill>
            <a:srgbClr val="d0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100" spc="-1" strike="noStrike">
                <a:solidFill>
                  <a:srgbClr val="000000"/>
                </a:solidFill>
                <a:latin typeface="Verdana"/>
              </a:rPr>
              <a:t>Klassifiserings-basert medlemska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100" spc="-1" strike="noStrike">
                <a:solidFill>
                  <a:srgbClr val="000000"/>
                </a:solidFill>
                <a:latin typeface="Verdana"/>
              </a:rPr>
              <a:t>var et av Rotary’s suksessrike kjennetegn og dannet grunnlaget for en svært sterk vekst de første åren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22600" y="866880"/>
            <a:ext cx="4721400" cy="401292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249800" y="333360"/>
            <a:ext cx="164880" cy="4987440"/>
            <a:chOff x="4249800" y="333360"/>
            <a:chExt cx="164880" cy="4987440"/>
          </a:xfrm>
        </p:grpSpPr>
        <p:sp>
          <p:nvSpPr>
            <p:cNvPr id="111" name=""/>
            <p:cNvSpPr/>
            <p:nvPr/>
          </p:nvSpPr>
          <p:spPr>
            <a:xfrm flipV="1">
              <a:off x="4249800" y="333360"/>
              <a:ext cx="0" cy="498744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4414680" y="333360"/>
              <a:ext cx="0" cy="498744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327560" y="333360"/>
              <a:ext cx="0" cy="498744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5346720"/>
            <a:ext cx="749160" cy="750960"/>
          </a:xfrm>
          <a:prstGeom prst="rect">
            <a:avLst/>
          </a:prstGeom>
          <a:ln w="9360">
            <a:solidFill>
              <a:srgbClr val="d0d0d0"/>
            </a:solidFill>
            <a:miter/>
          </a:ln>
        </p:spPr>
      </p:pic>
      <p:sp>
        <p:nvSpPr>
          <p:cNvPr id="115" name=""/>
          <p:cNvSpPr/>
          <p:nvPr/>
        </p:nvSpPr>
        <p:spPr>
          <a:xfrm rot="20802000">
            <a:off x="0" y="4114800"/>
            <a:ext cx="5029200" cy="8240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Du er ditt yrkes representant i Rotary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og Rotary’s representant i ditt yr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6800" y="5832360"/>
            <a:ext cx="30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Rotary Distrikt 22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984480" y="314280"/>
            <a:ext cx="174600" cy="5000400"/>
            <a:chOff x="3984480" y="314280"/>
            <a:chExt cx="174600" cy="5000400"/>
          </a:xfrm>
        </p:grpSpPr>
        <p:sp>
          <p:nvSpPr>
            <p:cNvPr id="118" name=""/>
            <p:cNvSpPr/>
            <p:nvPr/>
          </p:nvSpPr>
          <p:spPr>
            <a:xfrm flipV="1">
              <a:off x="3984480" y="314280"/>
              <a:ext cx="0" cy="500040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159080" y="314280"/>
              <a:ext cx="0" cy="500040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066920" y="314280"/>
              <a:ext cx="0" cy="500040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272120" y="1519200"/>
            <a:ext cx="4659120" cy="31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Rotary’s Etiske L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vedtatt i 1915 vis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Rotary’s </a:t>
            </a:r>
            <a:r>
              <a:rPr b="1" lang="nb-NO" sz="2400" spc="-1" strike="noStrike">
                <a:solidFill>
                  <a:srgbClr val="000000"/>
                </a:solidFill>
                <a:latin typeface="Verdana"/>
              </a:rPr>
              <a:t>lederskap</a:t>
            </a: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i å bekjempe korrupsjon og   unfair praksis i forretningslive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gjennom mange å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160520" y="4721040"/>
            <a:ext cx="4982760" cy="161640"/>
            <a:chOff x="4160520" y="4721040"/>
            <a:chExt cx="4982760" cy="161640"/>
          </a:xfrm>
        </p:grpSpPr>
        <p:sp>
          <p:nvSpPr>
            <p:cNvPr id="123" name=""/>
            <p:cNvSpPr/>
            <p:nvPr/>
          </p:nvSpPr>
          <p:spPr>
            <a:xfrm flipH="1">
              <a:off x="4160520" y="4882680"/>
              <a:ext cx="498276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4160520" y="4721040"/>
              <a:ext cx="498276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160520" y="4806360"/>
              <a:ext cx="498276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3989520" cy="499752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4159080" y="1273320"/>
            <a:ext cx="4984560" cy="164880"/>
            <a:chOff x="4159080" y="1273320"/>
            <a:chExt cx="4984560" cy="164880"/>
          </a:xfrm>
        </p:grpSpPr>
        <p:sp>
          <p:nvSpPr>
            <p:cNvPr id="128" name=""/>
            <p:cNvSpPr/>
            <p:nvPr/>
          </p:nvSpPr>
          <p:spPr>
            <a:xfrm flipH="1">
              <a:off x="4159080" y="1438200"/>
              <a:ext cx="498456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4159080" y="1273320"/>
              <a:ext cx="498456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159080" y="1360440"/>
              <a:ext cx="498456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5346720"/>
            <a:ext cx="749160" cy="750960"/>
          </a:xfrm>
          <a:prstGeom prst="rect">
            <a:avLst/>
          </a:prstGeom>
          <a:ln w="9360">
            <a:solidFill>
              <a:srgbClr val="d0d0d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766800" y="5832360"/>
            <a:ext cx="30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Rotary Distrikt 22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5346720"/>
            <a:ext cx="749160" cy="750960"/>
          </a:xfrm>
          <a:prstGeom prst="rect">
            <a:avLst/>
          </a:prstGeom>
          <a:ln w="9360">
            <a:solidFill>
              <a:srgbClr val="d0d0d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755640" y="993600"/>
            <a:ext cx="7335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Rotary’s mot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Verdana"/>
              </a:rPr>
              <a:t>Service above 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b-NO" sz="3200" spc="-1" strike="noStrike">
                <a:solidFill>
                  <a:srgbClr val="000000"/>
                </a:solidFill>
                <a:latin typeface="Verdana"/>
              </a:rPr>
              <a:t>Å gagne and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6800" y="5832360"/>
            <a:ext cx="30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Rotary Distrikt 22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46440" y="1217520"/>
            <a:ext cx="4457880" cy="3594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35200" y="539640"/>
            <a:ext cx="6507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Yrkesmessig tjenesteyte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670040"/>
            <a:ext cx="44658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75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..er også en del a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Aft>
                <a:spcPts val="75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Verdana"/>
              </a:rPr>
              <a:t>Hensikten med Ro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1412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Høy etisk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14120">
              <a:lnSpc>
                <a:spcPct val="12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i yrkesliv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1412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Respekt for alle nyttige y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1412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Ethvert yrke er en mulighet 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Verdana"/>
              </a:rPr>
              <a:t>til å tjene samfun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080" y="4721040"/>
            <a:ext cx="4601880" cy="161640"/>
            <a:chOff x="1080" y="4721040"/>
            <a:chExt cx="4601880" cy="161640"/>
          </a:xfrm>
        </p:grpSpPr>
        <p:sp>
          <p:nvSpPr>
            <p:cNvPr id="140" name=""/>
            <p:cNvSpPr/>
            <p:nvPr/>
          </p:nvSpPr>
          <p:spPr>
            <a:xfrm flipH="1">
              <a:off x="1080" y="4882680"/>
              <a:ext cx="460188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1080" y="4721040"/>
              <a:ext cx="460188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080" y="4806360"/>
              <a:ext cx="460188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-360" y="1273320"/>
            <a:ext cx="4609800" cy="164880"/>
            <a:chOff x="-360" y="1273320"/>
            <a:chExt cx="4609800" cy="164880"/>
          </a:xfrm>
        </p:grpSpPr>
        <p:sp>
          <p:nvSpPr>
            <p:cNvPr id="144" name=""/>
            <p:cNvSpPr/>
            <p:nvPr/>
          </p:nvSpPr>
          <p:spPr>
            <a:xfrm flipH="1">
              <a:off x="-360" y="1438200"/>
              <a:ext cx="460980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-360" y="1273320"/>
              <a:ext cx="460980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-360" y="1360440"/>
              <a:ext cx="460980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5346720"/>
            <a:ext cx="749160" cy="750960"/>
          </a:xfrm>
          <a:prstGeom prst="rect">
            <a:avLst/>
          </a:prstGeom>
          <a:ln w="9360">
            <a:solidFill>
              <a:srgbClr val="d0d0d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766800" y="5832360"/>
            <a:ext cx="30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Rotary Distrikt 22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4 spørsmålsprøv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28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9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Er det sannhe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9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Er det rettferdig overfor alle det angå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9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Vil det skape forståelse og bedre vennskap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9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Verdana"/>
              </a:rPr>
              <a:t>Vil det være til beste for alle det angå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5346720"/>
            <a:ext cx="749160" cy="750960"/>
          </a:xfrm>
          <a:prstGeom prst="rect">
            <a:avLst/>
          </a:prstGeom>
          <a:ln w="9360">
            <a:solidFill>
              <a:srgbClr val="d0d0d0"/>
            </a:solidFill>
            <a:miter/>
          </a:ln>
        </p:spPr>
      </p:pic>
      <p:grpSp>
        <p:nvGrpSpPr>
          <p:cNvPr id="152" name=""/>
          <p:cNvGrpSpPr/>
          <p:nvPr/>
        </p:nvGrpSpPr>
        <p:grpSpPr>
          <a:xfrm>
            <a:off x="-360" y="1289160"/>
            <a:ext cx="9142920" cy="133200"/>
            <a:chOff x="-360" y="1289160"/>
            <a:chExt cx="9142920" cy="133200"/>
          </a:xfrm>
        </p:grpSpPr>
        <p:sp>
          <p:nvSpPr>
            <p:cNvPr id="153" name=""/>
            <p:cNvSpPr/>
            <p:nvPr/>
          </p:nvSpPr>
          <p:spPr>
            <a:xfrm flipH="1">
              <a:off x="-360" y="1289160"/>
              <a:ext cx="914292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-360" y="1422360"/>
              <a:ext cx="914292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-360" y="1351800"/>
              <a:ext cx="9142920" cy="0"/>
            </a:xfrm>
            <a:prstGeom prst="line">
              <a:avLst/>
            </a:prstGeom>
            <a:ln w="324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766800" y="5832360"/>
            <a:ext cx="30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Rotary Distrikt 22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d0d0d0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61596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Rotary har i dag vel 1,2 millioner medlemmer fordelt på mer enn 200 l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28800" y="2622600"/>
            <a:ext cx="653724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100" spc="-1" strike="noStrike">
                <a:solidFill>
                  <a:srgbClr val="3333cc"/>
                </a:solidFill>
                <a:latin typeface="Verdana"/>
              </a:rPr>
              <a:t>I Norge er det ca. 13.000 medlemmer fordelt på ca. 275 klubber i 7 distrikt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5346720"/>
            <a:ext cx="749160" cy="750960"/>
          </a:xfrm>
          <a:prstGeom prst="rect">
            <a:avLst/>
          </a:prstGeom>
          <a:ln w="9360">
            <a:solidFill>
              <a:srgbClr val="d0d0d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766800" y="5832360"/>
            <a:ext cx="30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Verdana"/>
              </a:rPr>
              <a:t>Rotary Distrikt 22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16:02:38Z</dcterms:created>
  <dc:creator>Rotary Rotary</dc:creator>
  <dc:description/>
  <dc:language>en-US</dc:language>
  <cp:lastModifiedBy>Eugen Landeide</cp:lastModifiedBy>
  <cp:lastPrinted>2004-07-07T16:57:15Z</cp:lastPrinted>
  <dcterms:modified xsi:type="dcterms:W3CDTF">2008-08-04T11:23:16Z</dcterms:modified>
  <cp:revision>352</cp:revision>
  <dc:subject/>
  <dc:title>RI Presidents Through the Ages</dc:title>
</cp:coreProperties>
</file>