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2BF-7243-4A02-BFB8-09886AE4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6B8-5E79-46A6-AC55-CEC2DF37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200-94C7-49BE-BD43-23243D5A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E91-2ED8-4B36-8BD3-13F80394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F8F-F7B4-489C-B163-226F92C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74C-81A4-43E5-8F97-24D29BB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C7E-E50A-41CF-B298-46FE39E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F5-1AAE-4226-9BCD-0087EAB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623-41D3-4389-9BD3-0647D7A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C05-08E4-436F-B3EB-98A2ADB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6D6-3D06-486C-A01A-6DF8BBE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DE0-2CF9-4E7D-90F0-75232F2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64DD-F8D6-467B-ABE7-140027FC6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RS  I  PRESENTASJONSTEKNIK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Å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Å  BEVISSTGJØRE  LEDEREN NØDVENDIGHETEN  AV  G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LEGGING  OG GJENNOMFØRING AV  ET  ROTARY MØ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LEGGIN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VA  ER  BUDSKAPET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VOR  LANG  TID  HAR  JEG  TIL  RÅDIGHET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VILKEN  METODE  SKAL  JEG  VEL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VILKE  HJELPEMIDLER  SKAL  JEG  BENYTTE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SK ALLTID ROTARY-RELATERT STOFF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SKAP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LEGG  UT  I  FRA  PRINSIPPET:    "DET  ENKLE  ER  DET  GENIA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ÆR  KORTFATTE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  DEG  TIL  SAKEN 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ÆR  BEVISST  DITT  EGET  MÅL  MED  PRESENTASJONEN (Hva ønsker jeg med innlegge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D  TIL  RÅDIGH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LEGG  PRESENTASJONEN  DIN  UT  I  FRA  DEN TID  DU HAR  TIL RÅDIGHET, MEN  VÆR  BEVISST  PÅ  DITT  EGET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DSBEHO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SK  AT SPØRSMÅLSSTILLING  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ATT  INNGÅR  I  TIDEN, OG  GÅ  IKKE  UTOVER  D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ODEVAL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DRAG/FORELESNI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SJON/VEILEDNI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  MED  GRUPPEARBEI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FARINGSDELING  BLANDT  PUBLIKU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TALE/DEBATT/DISKUSJ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JELPEMIDL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Film, lysbild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C med prosjektor eller overhea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* Vær selektiv med bokstavstørrelse, 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   fargevalg og bakgrunnsbi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* Bruk ikke for mye tekst pr bil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Gruppeoppgaver/spørsmå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* Ha disse klare på forhå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* Bedre med få enn for m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EN  ATFE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ÆR  BEVISST  PÅ  FØLGE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KK  TYDEL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 PÅ  TILHØRE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KK  IKKE  TIL  LERRE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Å  IKKE  FORAN  OVERHAEDPROSJEK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ÆR  ROLIG - LEGG MERKE  TIL DINE UNO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TTIGE  TIP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gjennom ditt manus på forhå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å din ektefelle/samboer eller andre til og høre deg. "Tørr-trening" er nyttig spesielt hvis du er usikker. Be om evaluering, slik at du får rettet på deg selv og ditt innle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 tiden du bruker, slik at du får god "timing" på ditt innle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0:37:20Z</dcterms:created>
  <dc:creator>Finn Kolstø</dc:creator>
  <dc:description/>
  <dc:language>en-US</dc:language>
  <cp:lastModifiedBy>Finn Kolstø</cp:lastModifiedBy>
  <cp:lastPrinted>2006-05-23T07:34:18Z</cp:lastPrinted>
  <dcterms:modified xsi:type="dcterms:W3CDTF">2006-06-06T10:12:56Z</dcterms:modified>
  <cp:revision>8</cp:revision>
  <dc:subject/>
  <dc:title>KURS  I  PRESENTASJONSTEKNIKK</dc:title>
</cp:coreProperties>
</file>