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D68-351E-4086-877A-6DA97A45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FF5-B35E-436A-B976-B6B65D85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CD6-DCB9-49F6-A807-D44019DB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9035-3657-41C4-9BBF-77181B55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E78-A1A0-495A-9DF9-E13952E7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24F-FECB-42B2-AABE-6FD28CFE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D42-D3BD-40B7-A5E6-7AD9C442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ED2-9A52-41D0-97C2-F126E3F7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DF5-9FFE-4C16-98DF-1F5FB08F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C9E-14B3-41CE-B6C1-C8AB87BC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5F2-5631-4473-92F4-FF9C6ADB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3A8-DE99-4BE3-A429-43CECACF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A905-449E-443C-B465-9AF2C2511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tary.org/aboutrotary/president/boyd/bio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tary.org/aboutrotary/president/boyd/bio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tary.org/aboutrotary/president/boyd/bio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1880" y="3263760"/>
          <a:ext cx="182520" cy="1552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843280" y="3141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43280" y="4365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4328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8136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-27000"/>
            <a:ext cx="9144000" cy="1152360"/>
            <a:chOff x="0" y="-27000"/>
            <a:chExt cx="9144000" cy="1152360"/>
          </a:xfrm>
        </p:grpSpPr>
        <p:sp>
          <p:nvSpPr>
            <p:cNvPr id="47" name=""/>
            <p:cNvSpPr/>
            <p:nvPr/>
          </p:nvSpPr>
          <p:spPr>
            <a:xfrm>
              <a:off x="1332000" y="693720"/>
              <a:ext cx="7812000" cy="43164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r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32000" y="-27000"/>
              <a:ext cx="7812000" cy="72072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otary Distrikt 2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132084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508720" y="103320"/>
              <a:ext cx="3095640" cy="102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755640" y="1423800"/>
            <a:ext cx="74167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5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ITE FOR OPPLÆRING OG KOMMUNIKASJ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OMMENTARER  TIL  OPPLEGG  LEDERUTVIKL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G PRESENTASJONSTEKNIK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rs ”BEVISSTGJØRING AV ROTARYS’ LEDER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urs PRESENTASJONSTEKNIK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ÆRINGSPYRAMI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31880" y="3263760"/>
          <a:ext cx="182520" cy="1552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2843280" y="3141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43280" y="4365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328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8136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-27000"/>
            <a:ext cx="9144000" cy="1152360"/>
            <a:chOff x="0" y="-27000"/>
            <a:chExt cx="9144000" cy="1152360"/>
          </a:xfrm>
        </p:grpSpPr>
        <p:sp>
          <p:nvSpPr>
            <p:cNvPr id="58" name=""/>
            <p:cNvSpPr/>
            <p:nvPr/>
          </p:nvSpPr>
          <p:spPr>
            <a:xfrm>
              <a:off x="1332000" y="693720"/>
              <a:ext cx="7812000" cy="43164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r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32000" y="-27000"/>
              <a:ext cx="7812000" cy="72072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otary Distrikt 2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132084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508720" y="103320"/>
              <a:ext cx="3095640" cy="102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539640" y="1519560"/>
            <a:ext cx="835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legget er en grovskisse med momenter som kan legges inn i klubbenes lederutvikling. Det er derved åpning for egne innspill og kreativi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 er opp til klubben, dets styre og opplæringsle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 velge hva som vil gjennomføres ut ifra de ønsker og behov den enkelte klubb måtte 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læringsleder står fritt til metodevalg, men det min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 hvilke metoder det ligger størst læringseffekt i. Bruk læringspyramiden som et godt tips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 sammenhe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31880" y="3263760"/>
          <a:ext cx="182520" cy="1552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843280" y="3141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4365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136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-27000"/>
            <a:ext cx="9144000" cy="1152360"/>
            <a:chOff x="0" y="-27000"/>
            <a:chExt cx="9144000" cy="1152360"/>
          </a:xfrm>
        </p:grpSpPr>
        <p:sp>
          <p:nvSpPr>
            <p:cNvPr id="69" name=""/>
            <p:cNvSpPr/>
            <p:nvPr/>
          </p:nvSpPr>
          <p:spPr>
            <a:xfrm>
              <a:off x="1332000" y="693720"/>
              <a:ext cx="7812000" cy="43164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r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0" y="-27000"/>
              <a:ext cx="7812000" cy="72072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otary Distrikt 2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132084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508720" y="103320"/>
              <a:ext cx="3095640" cy="102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468360" y="1280520"/>
            <a:ext cx="832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faringsdeling både involverer og engasjerer/aktiviserer deltakerne, og kan være et godt metodevalg i mange sammenhe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læringsleder må gjerne kontakte komite for opplæring og kommunikasjon for veiledning og støtte hvis det er ønskel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læringsleder bør kartlegge og registrere klubbens resurspersoner i forbindelse med opplæring og lederutvikling for og etablere samarbeid med di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sk at all opplæring er et prosessarb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2:35:26Z</dcterms:created>
  <dc:creator>Resepsjon</dc:creator>
  <dc:description/>
  <dc:language>en-US</dc:language>
  <cp:lastModifiedBy>Eugen Landeide</cp:lastModifiedBy>
  <dcterms:modified xsi:type="dcterms:W3CDTF">2006-10-05T09:32:12Z</dcterms:modified>
  <cp:revision>6</cp:revision>
  <dc:subject/>
  <dc:title>Lysbilde 1</dc:title>
</cp:coreProperties>
</file>