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495-C16A-4C2D-A6BA-214051D0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61C-A559-43AC-9A65-B0270C14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B52-5439-4DD2-B4DF-BDB032C2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FA0-DE07-4E01-B989-61D0AF8A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AB4-B5D6-418F-948D-09B41F1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1E4-9E84-44E4-9A8B-5E91E7A9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47D-1392-4196-AFCB-ACCA494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516-73D3-48FA-9F78-477D56BB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4BA-927E-4049-9A6A-B8C8FA6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D56-A5EB-48E2-B13E-693EB5D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2B3-0548-40B4-A4C2-A5E4FB0C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E74-A134-43F9-AF56-56B4762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407-57B2-4681-8EEE-FE5886B1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tary.org/aboutrotary/president/boyd/bi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47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755640" y="1720440"/>
            <a:ext cx="74613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K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Bevisstgjøring av Rotary’s le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Utarbeidet av Lillian Johansen og Finn Kolstø, Gardermoen Rotary C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146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684360" y="1557360"/>
            <a:ext cx="68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8064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. Etik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kk er en vesentlig del av godt lederskap, men dette er ikke berørt i kur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nnen er at etikk må ansees som et eget fag/tema og må presenteres der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ytt de etiske regler for hvert yrke, og drøft di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58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50920" y="919440"/>
            <a:ext cx="835344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 u="sng">
                <a:solidFill>
                  <a:srgbClr val="000000"/>
                </a:solidFill>
                <a:uFillTx/>
                <a:latin typeface="Arial"/>
              </a:rPr>
              <a:t>Innled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deen bak opplegget for kurs  ”Bevisstgjøring av Rotary’s ledere”, var 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ette opp enkle momenter klubbene og deres opplæringsansvarl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kunne benytte i deres videre arb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ensikten var ikke å presentere et fullverdig kurs i lederutvikling, da d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innes utallige kurs i dette emnet utviklet både for næringslivet, Forsvar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g det offentlige for øvrig.  Ideen var videre å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Gjøre budskapet lett forståelig, og lett og forholde seg til for a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Gjøre budskapet ”spisbart” for ledere på </a:t>
            </a:r>
            <a:r>
              <a:rPr b="0" lang="nb-NO" sz="2000" spc="-1" strike="noStrike" u="sng">
                <a:solidFill>
                  <a:srgbClr val="000000"/>
                </a:solidFill>
                <a:uFillTx/>
                <a:latin typeface="Arial"/>
              </a:rPr>
              <a:t>all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nivå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kape en felles plattform for alle ledere i Rot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omentene  brukes på samlinger og møter hvor det enkelte medlem b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nvolvert i det videre arbeid, og hvor de kan bidra til det endel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nnholdet i egen klubb’s opplæring og lederutvik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69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50920" y="1256400"/>
            <a:ext cx="82818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2. Det overordnede må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Lederutviklingen i distriktet har som formål å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kaffe gode ledere på klubbplan, og sørge for skolering av tillitsvalgte som </a:t>
            </a: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i fremtiden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kan tenkes å gjøre tjeneste på nivåer i organisasjonen over klubbnivå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t henvises til ”Klubbens Leadership pla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80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176760" y="1340280"/>
            <a:ext cx="841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3. Målet er å besvisstgjøre kommende led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på alle nivåer på følge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Lederr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Lederansvar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Lederoppgav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Utviklingen av klubbens lederskapsplan v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bli enklere for alle når disse begrepene 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finert og gjennomdrøf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91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250920" y="1267200"/>
            <a:ext cx="84978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4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Lederrollen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heru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å stå fram som et godt eksempel” og ”være et forbilde”, "LEAD THE WAY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å motivere og engas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å involvere og la alle så langt råd er, få et eierforhold til sakene/prosjekt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nødvendigheten av </a:t>
            </a: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god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kommunikasjon på alle plan og med alle midler og ikke glemme nødvendigheten av den menneskelige kont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1052280"/>
            <a:chOff x="0" y="0"/>
            <a:chExt cx="9144000" cy="1052280"/>
          </a:xfrm>
        </p:grpSpPr>
        <p:sp>
          <p:nvSpPr>
            <p:cNvPr id="102" name=""/>
            <p:cNvSpPr/>
            <p:nvPr/>
          </p:nvSpPr>
          <p:spPr>
            <a:xfrm>
              <a:off x="1332000" y="658080"/>
              <a:ext cx="7812000" cy="39420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32000" y="0"/>
              <a:ext cx="7812000" cy="65808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2084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508720" y="118800"/>
              <a:ext cx="309564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324000" y="1027800"/>
            <a:ext cx="85690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. Lederansvare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ru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varet for å fastsette konkrete og reelle må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sippet om at ansvar ikke kan pålegges,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svar er noe den enkelte 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ståelsen av og ha det overordnede ansvaret for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e klubbens drift, og derved også ansvaret f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ø, trivsel og klubbens sosiale l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å være bevisst på bruken av egen organisasj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å være bevisst de konsekvenser lederen må t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 det ansvaret han/hun har påtatt s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113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324000" y="1401120"/>
            <a:ext cx="8496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6. Lederoppgavene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, heru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ære utadvendt og positiv til alt og 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tterleve Rotary’s idea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ære engasjert og delak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ære informativ (intet er hemmelig 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ære rettferdig i fordelingen av arbeidsoppgav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og la alle få gjøre sin innsats/ta sine oppg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Utøve god presentasjonsteknikk (Se eget k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Formidle, og ha evne til og lede ”den god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samt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124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324000" y="1054440"/>
            <a:ext cx="8496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6. LEDEROPPGAVENE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Hele tiden og gjøre sine medlemme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medarbeidere gode; ros og oppmun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Bidra til  kontinuiteten i klubb-arbei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erdsette og oppmuntre til kreativ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Tilby regelmessig og fortløpende opplæ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Forståelse for samarbeid og gruppeprosesser</a:t>
            </a: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valuere (kan det gjøres bedre, eller på en anne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måte neste gang 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31880" y="3263760"/>
          <a:ext cx="182520" cy="155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843280" y="3141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4365720"/>
            <a:ext cx="17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81360" y="314172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-27000"/>
            <a:ext cx="9144000" cy="1152360"/>
            <a:chOff x="0" y="-27000"/>
            <a:chExt cx="9144000" cy="1152360"/>
          </a:xfrm>
        </p:grpSpPr>
        <p:sp>
          <p:nvSpPr>
            <p:cNvPr id="135" name=""/>
            <p:cNvSpPr/>
            <p:nvPr/>
          </p:nvSpPr>
          <p:spPr>
            <a:xfrm>
              <a:off x="1332000" y="693720"/>
              <a:ext cx="7812000" cy="43164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2000" y="-27000"/>
              <a:ext cx="7812000" cy="720720"/>
            </a:xfrm>
            <a:prstGeom prst="rect">
              <a:avLst/>
            </a:prstGeom>
            <a:solidFill>
              <a:srgbClr val="5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800" spc="-1" strike="noStrike">
                  <a:solidFill>
                    <a:srgbClr val="ffffff"/>
                  </a:solidFill>
                  <a:latin typeface="Arial"/>
                </a:rPr>
                <a:t>Rotary Distrikt 2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320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5508720" y="103320"/>
              <a:ext cx="3095640" cy="10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539640" y="1267200"/>
            <a:ext cx="7586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7. Fellesnevneren for alle ledere på 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ulike nivåer, er å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nb-NO" sz="3200" spc="-1" strike="noStrike" u="sng">
                <a:solidFill>
                  <a:srgbClr val="000000"/>
                </a:solidFill>
                <a:uFillTx/>
                <a:latin typeface="Arial"/>
              </a:rPr>
              <a:t>MOTIVERE, INVOLVERE OG ENGASJERE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pesielt i Rotary’s virksomhet er de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iktig for å kunne oppnå engasjerte klubber både på det lokale og det internasjonale plan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2:35:26Z</dcterms:created>
  <dc:creator>Resepsjon</dc:creator>
  <dc:description/>
  <dc:language>en-US</dc:language>
  <cp:lastModifiedBy>standard</cp:lastModifiedBy>
  <dcterms:modified xsi:type="dcterms:W3CDTF">2006-10-03T14:29:57Z</dcterms:modified>
  <cp:revision>10</cp:revision>
  <dc:subject/>
  <dc:title>Lysbilde 1</dc:title>
</cp:coreProperties>
</file>