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77B-B4E4-4133-8DEA-6F6081E5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424-7837-48BE-9462-F12C427E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C4B4-77C4-47CB-9862-C7975AD2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719-AEAB-4039-9310-8EBC5B72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F2B8-AC6F-4D44-8187-07F75954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702-CC7E-42B1-A4E0-09BD6950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A5C-EE93-4B43-8DCE-1948C791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EEF-2502-4F4C-BDEF-CE076C4C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EAC-2AE7-4AF5-B623-918520E4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3D5-64E3-496C-A7E4-591A4019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80A-DE43-44AF-8F8D-7DCB4DDA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062-F08A-49BC-A9D9-2CB661FA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8FC9-5018-4AFB-9E13-7238458AC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lkomm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taryskolen i Distrikt 2260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n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urset er utarbeidet og tilrettelagt a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s Martin Larssen, Langhus Rotaryklu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152360" cy="11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33720" y="6418440"/>
            <a:ext cx="5000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  <a:ea typeface="Arial"/>
              </a:rPr>
              <a:t>Endringer i dokumentet ikke tillatt. Eventuelle forslag til endringer sendes tekstforfatt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vorfor Men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ortjenesten er et målrettet arbeid som bidrar til å etterleve Rotarys verdier som bla. s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 mitt yrke som en mulighet til å gagne and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 forventes at jeg stiller mine yrkeskunnskaper til disposisjon for å gi unge mennesker de beste muligheter for å hjelpe andre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ntorens oppg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g så er det både utviklende og  interessant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812000" y="260280"/>
            <a:ext cx="1008000" cy="857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ntoring hva og hvorda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5640" y="4005360"/>
            <a:ext cx="734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ientering for klubbens medlem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152360" cy="1152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200" y="5707080"/>
            <a:ext cx="267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ehov for teknisk utstyr: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deokan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idsforbruk inkl. kommentarer:  50 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va er en men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Mentor skal være coach og veileder for ungdomsbedriftene gjennom å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Mentorens hovedoppgaver er å dele sine kunnskaper og erfaringer fra næringslivet med ungdommen, samt gi innblikk i hvordan dagliglivet i en bedrift funger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ntorens oppg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lle klargjørende og utfordrende spørsmål, som får ungdommen til å fokusere på de viktige oppgavene og hjelpe dem i målsettings-,  gjennomførings- og oppfølgingsproses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ntorens oppg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Være sparringpartner når de skal bestemme hva bedriften skal drive med og i den konkrete utformingen av forretningsideen, kundegrupper, salgskanaler, etc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Ungdommene må selv ta initiativ og fatte beslutning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Mentor skal være diskusjonspartner og hjelpe dem til å ”finne lysbryteren”, når mørket faller på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ntorens oppg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ilede i alle spørsmål der elevene trenger råd om veien vider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ntorens oppg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av mentorens viktigste oppgaver er å støtte opp, inspirere og motivere når ungdommene føler det butter, tidsfristene er knappe og arbeidsmengden s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re elever og bedriften kan trenge det motsatte.  De kan være så høyt giret og ha slik fart at de må holdes igjen for ikke å komme ut i unødvendig uheldige situasjoner og beskyttes mot seg sel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ntorens oppg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 er ikke uvanlig at mentorer blir forespurt om å være dommere ved skolenes internmesser forut for fylkesmesterskap NM osv.   Dommerrollen krever at mentor kan distansere seg fra sin egen mentorbedrift og utøve et upartisk sy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ntorens oppg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or har gjennom sin yrkesbakgrunn mulighet til å tilby sine tjenester som gjesteforeleser på skole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aene vil være knyttet til pensum, men som en ekstern står mentor fritt til å både å vinkle og velge konkret innhol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te kan være en spennende og svært populær del av mentorro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2:10:30Z</dcterms:created>
  <dc:creator>a4303</dc:creator>
  <dc:description/>
  <dc:language>en-US</dc:language>
  <cp:lastModifiedBy>Eugen Landeide</cp:lastModifiedBy>
  <dcterms:modified xsi:type="dcterms:W3CDTF">2006-09-13T10:38:03Z</dcterms:modified>
  <cp:revision>11</cp:revision>
  <dc:subject/>
  <dc:title>Komité for opplæring og kommunikasjon  - Mentoring</dc:title>
</cp:coreProperties>
</file>