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CAF6-0C8A-4311-98CB-FD5A5EB9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3654-3FA6-4AA5-9CBE-0104F938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D11-D405-46E3-9F6F-7674B193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CD8-BB23-4150-8E6B-A37B2D5F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96E-51FC-453F-B3DD-6C74E118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B375-DDB7-4BA5-9C6D-1ACA7E05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388-CAEA-45F9-AA89-FD2217ED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784-EC68-4E74-9917-64B56737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F46-5C4C-41D5-92E9-BF286693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94B-BFA7-46F9-BC15-34C43AAE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79E-2DFA-4925-AAAF-E14F0322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F2CE-B632-4492-8F96-9D41A248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2798-FE09-471B-A105-B55E94C76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lkomm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taryskolen i Distrikt 2260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n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urset er utarbeidet og tilrettelagt a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ns Martin Larssen, Langhus Rotaryklu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33720" y="6424560"/>
            <a:ext cx="5000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  <a:ea typeface="Arial"/>
              </a:rPr>
              <a:t>Endringer i dokumentet ikke tillatt. Eventuelle forslag til endringer sendes tekstforfatt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mfang av mentoroppgav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fanget er opp til mentor og ungdomsbedriften å bestem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isjonsnivået vil variere fra bedrift til bedri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en bedrifter er selvgående, mens andre trenger mer bistan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kturen og opplegget på den enkelte skolen vil også være med å påvirke omfanget av mentorens oppgav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forutsetning av at avtalens intensjoner blir innfridd, må mentor selv setter grenser for mentorarbeidets omfa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amarbeid med skole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t samarbeid med skolen er avgjørende for å lykkes i mentorrolle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 er her premissene for og grunnstrukturen i mentorarbeidet etableres og vedlikehol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olene har gjerne en koordinator for ungdomsbedriftene som samarbeidet med skolen kan bygges rund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olens koordinator er en viktig kanal for kommunikasjon og for gjensidig oppdatering om ungdomsbedriftenes progresjon og utfordringer som må lø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ørste ste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yret bestemmer at klubben ønsker å satse på mentoring og hvilken komité som skal ha ansvaret for mentoringvirksomh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iteen velger en mentorkoordinator blant sine medlemmer.  Mentorkoordinator bør ha minst et 2-års perspektiv på sitt engasj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presenterer mentoring som konsept for klubbens medle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opptar en fortegnelse over medlemmer som vil være ment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vordan komme i 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iteen kontakter en videregående skole som har ungdomsbedrifter på sin læreplan og hører om de er interessert i å ha mentorer fra aktuell klub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iteen avtaler møte med den interesserte skolens ledelse og UB koordinator for å presentere seg og starte prosessen med å inngå en avtale mellom klubben og sk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vordan komme i g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lubben og skolen inngår avtale samarbeidsavtale om men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orienterer klubben om avtalens inngå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samler mentorene til briefing og gjennomgang av deres ansvar og oppg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sender oversikt over klubbens mentorer til skolens UB-k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vordan følge o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følger opp mentorenes progresjon med regelmessige møter med mentorene der de får anledning til å diskutere utfordringer og gi hverandre ti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følger løpende opp overfor og gir tilbakemelding til UB koordinator på sk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gir tilbakemelding fra møtene med UB koordinator til mentor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vordan følge o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avtaler halvårlige evalueringer med UB - koordinator og eventuelt skolens led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gir tilbakemelding til mentorer og klubbens medlemmer etter hver evalu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reforhandler og eventuelt fornyer samarbeidsavtalen om mentoring mellom skolen og klu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 for mentorvirksomh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Skolen inviterer ved skoleårets start mentorene til å presentere seg for ungdomsbedriftene samt å motta en presentasjon av ungdomsbedriftenes forretningsidé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Lærer/UB-koordinator kontakter mentor for å inngå bedriftsavtale med den enkelte ungdomsbedr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 for mentorvirksomh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 deltar i utgangspunktet på månedlige møter med ungdomsbedriften hun/han er mentor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nkallelse til møter sendes per e-post eller i posten til mentor (med kopi til UB koordinator og lærer) av bedriftens administrasjonssjef/kontorsj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 for mentorvirksomh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at fra møter i bedriften sendes til mentor pr. e-post eller i posten med kopi til UB koordinator og lærer slik at de kan følge opp bedriftene og mentoravt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 setter opp en kvartalsrapport som han sender ungdomsbedriften med kopi til til UB-koordinator, lærer og mentorkoordin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ntoring hva og hvordan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920" y="3141720"/>
            <a:ext cx="73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mentorer og mentorkoordinatorer i klubb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200" y="5707080"/>
            <a:ext cx="267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ehov for teknisk utstyr: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deokan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idsforbruk inkl. kommentarer:  60 m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s kontaktpunkter er i prioritert rekkefølge; ungdomsbedriften, lærer og UB-koordin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koordinator og UB koordinator evaluerer mentorvirksomheten ved terminskifte og skoleårets slu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 for mentorvirksomh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vorfor Men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tjenesten er et målrettet arbeid som bidrar til å etterleve Rotarys verdier som bla. s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 mitt yrke som en mulighet til å gagne and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 forventes at jeg stiller mine yrkeskunnskaper til disposisjon for å gi unge mennesker de beste muligheter for å hjelpe andre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ntorens oppg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g så er det både utviklende og  interessant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va er en men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Mentor skal være coach og veileder for ungdomsbedriftene gjennom å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Mentorens hovedoppgaver er å dele sine kunnskaper og erfaringer fra næringslivet med ungdommen, samt gi innblikk i hvordan dagliglivet i en bedrift funger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ntorens oppg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lle klargjørende og utfordrende spørsmål, som får ungdommen til å fokusere på de viktige oppgavene og hjelpe dem i målsettings-,  gjennomførings- og oppfølgingsproses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ntorens oppg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Være sparringpartner når de skal bestemme hva bedriften skal drive med og i den konkrete utformingen av forretningsideen, kundegrupper, salgskanaler, etc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Ungdommene må selv ta initiativ og fatte beslutning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Mentor skal være diskusjonspartner og hjelpe dem til å ”finne lysbryteren”, når mørket faller på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ntorens oppg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ilede i alle spørsmål der elevene trenger råd om veien vider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ntorens oppg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av mentorens viktigste oppgaver er å støtte opp, inspirere og motivere når ungdommene føler det butter, tidsfristene er knappe og arbeidsmengden s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e elever og bedriften kan trenge det motsatte.  De kan være så høyt giret og ha slik fart at de må holdes igjen for ikke å komme ut i unødvendig uheldige situasjoner og beskyttes mot seg sel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ntorens oppg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 er ikke uvanlig at mentorer blir forespurt om å være dommere ved skolenes internmesser forut for fylkesmesterskap NM osv.   Dommerrollen krever at mentor kan distansere seg fra sin egen mentorbedrift og utøve et upartisk sy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ntorens oppg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or har gjennom sin yrkesbakgrunn mulighet til å tilby sine tjenester som gjesteforeleser på skole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aene vil være knyttet til pensum, men som en ekstern står mentor fritt til å både å vinkle og velge konkret innhol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te kan være en spennende og svært populær del av mentorrol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079280" cy="917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2:10:30Z</dcterms:created>
  <dc:creator>a4303</dc:creator>
  <dc:description/>
  <dc:language>en-US</dc:language>
  <cp:lastModifiedBy>Eugen Landeide</cp:lastModifiedBy>
  <dcterms:modified xsi:type="dcterms:W3CDTF">2006-09-13T10:38:08Z</dcterms:modified>
  <cp:revision>14</cp:revision>
  <dc:subject/>
  <dc:title>Komité for opplæring og kommunikasjon  - Mentoring</dc:title>
</cp:coreProperties>
</file>