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4C4-B7DC-40AF-8C88-0854A6CC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D38-7209-45AD-8F77-408949A4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199-FF2F-4F01-8037-D7F67533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D49-C839-4AC3-AC27-9CFA724D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43E-33AA-47F6-8AAA-82684ABF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D90-2DFD-4256-A093-56E82242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1F6-081A-4A27-9219-AFA3FED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B3F-7E08-4D13-95E6-9DC5F344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F89-AC56-4183-86F9-26CECE50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20A-7804-461B-A2EE-06A5CDB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DEA-0761-4F30-BA59-9343CB9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198-0CB7-4792-BDD8-1DFB461B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17E6-7DE5-4CD3-9E6D-DE78DE0CB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komm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taryskolen i Distrikt 226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urset er utarbeidet og tilrettelagt a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s Martin Larssen, Langhus Rotaryklu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3720" y="6424560"/>
            <a:ext cx="500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Endringer i dokumentet ikke tillatt. Eventuelle forslag til endringer sendes tekstforfat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3286080"/>
            <a:ext cx="73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vordan komme i g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ølge op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200" y="5707080"/>
            <a:ext cx="267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ehov for teknisk utstyr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deokan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idsforbruk inkl. kommentarer:  40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vordan komme i 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ret bestemmer at klubben ønsker å satse på mentoring og hvilken komité som skal ha ansvaret for mentoringvirksomh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iteen velger en mentorkoordinator blant sine medlemmer.  Mentorkoordinator bør ha minst et 2-års perspektiv på sitt engasj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presenterer mentoring som konsept for klubbens medle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opptar en fortegnelse over medlemmer som vil være mentor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vordan komme i 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iteen kontakter en videregående skole som har ungdomsbedrifter på sin læreplan og hører om de er interessert i å ha mentorer fra aktuell klub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iteen avtaler møte med den interesserte skolens ledelse og UB koordinator for å presentere seg og starte prosessen med å inngå en avtale mellom klubben og sk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vordan komme i 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lubben og skolen inngår samarbeidsavtale om mento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orienterer klubben om avtalens inngåe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samler mentorene til briefing og gjennomgang av deres ansvar og oppga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sender oversikt over klubbens mentorer til skolens UB-koordin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vordan følge o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følger opp mentorenes progresjon med regelmessige møter med mentorene der de får anledning til å diskutere utfordringer og gi hverandre t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følger løpende opp overfor og gir tilbakemelding til UB koordinator på sk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gir tilbakemelding fra møtene med UB koordinator til mentor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vordan følge o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avtaler halvårlige evalueringer med UB - koordinator og eventuelt skolens led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gir tilbakemelding til mentorer og klubbens medlemmer etter hver evalu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reforhandler og eventuelt fornyer samarbeidsavtalen om mentoring mellom skolen og klu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10:30Z</dcterms:created>
  <dc:creator>a4303</dc:creator>
  <dc:description/>
  <dc:language>en-US</dc:language>
  <cp:lastModifiedBy>Eugen Landeide</cp:lastModifiedBy>
  <dcterms:modified xsi:type="dcterms:W3CDTF">2006-09-13T10:42:04Z</dcterms:modified>
  <cp:revision>12</cp:revision>
  <dc:subject/>
  <dc:title>Komité for opplæring og kommunikasjon  - Mentoring</dc:title>
</cp:coreProperties>
</file>