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9FFF-1803-4EE3-BC28-F6AB9DA6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5222-3B1A-42D2-81E6-1DF6A1FD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1738-DB9E-4DA6-BAA7-90159989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F911-2C78-4ECB-B4E0-6AFA222B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3994-D964-40ED-8941-058551CD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FC6D-203D-4B3F-BA56-D39E644A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536D-A72F-46B9-8F38-3BAA747F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7022-E419-418A-93A8-C2C7C971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7E1D-08D8-4A96-A3AC-455B299D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588-D6D5-49EC-8DDA-C83A1DA8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44AD-34DB-4D69-AB80-7FA4D9E2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4184-689C-4C0E-A9D9-99774516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5E10-CB9C-4000-B251-B60A4D2A4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lkomm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taryskolen i Distrikt 2260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n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urset er utarbeidet og tilrettelagt a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ns Martin Larssen, Langhus Rotaryklu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33720" y="6418440"/>
            <a:ext cx="50004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  <a:ea typeface="Arial"/>
              </a:rPr>
              <a:t>Endringer i dokumentet ikke tillatt. Eventuelle forslag til endringer sendes tekstforfatt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ommunikasjons- og opplæringspakke - innhol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152360" cy="1152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200" y="5707080"/>
            <a:ext cx="267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ehov for teknisk utstyr: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deokan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idsforbruk inkl. kommentarer:  10 m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ntoring - Presentasjo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vordan komme i gang med mentoring i klubben og følge o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toring hva og hvordan?  Orientering for klubbens medle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toring hva og hvordan?  For mentorer og mentorkoordinatorer i klubb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812000" y="260280"/>
            <a:ext cx="1050840" cy="892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9795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ntoring – Ma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arbeidsavtale om mentorvirksomhet mellom Skole og Rotary klu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sikt over ungdomsbedrifter og mento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ksempel på oversikt over ungdomsbedrifter og mento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sikt over foredrag og mento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sikt over mentorer til ungdomsbedri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812000" y="260280"/>
            <a:ext cx="1050840" cy="892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9795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2:10:30Z</dcterms:created>
  <dc:creator>a4303</dc:creator>
  <dc:description/>
  <dc:language>en-US</dc:language>
  <cp:lastModifiedBy>Eugen Landeide</cp:lastModifiedBy>
  <dcterms:modified xsi:type="dcterms:W3CDTF">2006-09-13T10:37:54Z</dcterms:modified>
  <cp:revision>16</cp:revision>
  <dc:subject/>
  <dc:title>Komité for opplæring og kommunikasjon  - Mentoring</dc:title>
</cp:coreProperties>
</file>